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A77-2976-4EF9-A852-E62BA308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7EA-E86B-4388-A0AE-730FF978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17187-BC7D-41F1-A4FF-66753F1E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AC204-D814-4A92-8860-F3CD1D05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42A8A-A77B-4894-93CA-7A20BD7E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B655F-1AEF-424A-91C6-A1A51802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EFEA3-2F42-4C21-9208-E5EAD417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BF368-3489-407D-B7ED-F0FADF6D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B46F3-8FD3-4249-98C6-9762162A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38D63-3A51-41D1-8023-29EAB349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58A7C-04E7-462D-BA6F-4054847E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F9A65-6A22-407F-88DE-33DE0868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7DD-9415-4AE1-A9CE-882B2A0A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8E2DD-B0AA-4FA8-9FD5-31A3223D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59592-F844-46C0-95A2-C84C09EE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09F28-4925-4983-9539-E5535DFA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0E62B-8545-45E4-AB00-4D56E7A5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41DCB-BDA3-441A-9639-898EA384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B8B00-EF4D-4A62-9244-D485DB49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23911-4D5A-4460-9AF0-C5351686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E2BED-F662-4D8A-BE78-C1F9A934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ABD70-967A-42B8-A06B-BAA2DFD2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2B138-3DF1-4E59-823F-97791DEE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1F2-CA49-4EF4-9400-763E3FE1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2A526-7BEC-4A3C-A1B0-9C8450F1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078E9-67BF-4EC4-B946-78E1221D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CC333-4856-4CC6-985B-6393AAE9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DD729-06A7-4FB8-83B5-2FF740BE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8254F-5CD2-454E-B17E-CCFBBEAE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553E9-FD6A-492F-AAF1-19493C88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FDBD6-D6C1-4445-B97A-7E96A3FC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AE7DE-A31D-4F3A-8FF3-20A2C5C0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5ACFE-F470-450B-8474-A44492BB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7A02B-34EE-49A0-940C-BFDB0CCA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8221-8D5A-4B6B-B001-AE13664C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2ECFE-9A58-48F7-9942-648B4E84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7024C-EFBC-4459-B993-D8A444C9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A7998-8B0F-41C7-8EEB-1835C842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89B68-E61D-43DA-8D5E-2A8F5DD5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6E8F3-BBAA-4360-BBAC-DFF4DDAF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4722E-61AE-4936-8E58-ABB38846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BCC18-7F10-46F3-925D-7C7B56F0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4D267-79B3-4D75-8D3C-48047241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7AE4B-B575-4B54-A37B-941E4F39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E7C6E-21DD-4FCB-9A14-21695477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D569-03B2-453B-9565-4BA967E6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40D6F-59B2-406C-9964-49B647D1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1871D-6E31-4763-ADB6-714A0E21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6BD84-2330-4160-A78E-6C56F447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55BAC-7803-4AD6-B76E-594259C2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830B5-7628-45F6-9A44-33EBD0F1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7AAAF-7801-453D-81FA-819B1A7B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8E2A5-B87A-4F6C-AF65-FFE96AC2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57798-0A81-4106-9499-98BF043F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6FD58-10C9-4400-9D1C-20FF7852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74861-263C-4066-AA28-04560615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CB72-03F6-404E-B1F7-DA10E3CC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2B98E-CE7E-429A-90C6-D0C21007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FAA2A-9F41-4981-A55B-2BF1A340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D8BEC-2794-44CE-A234-A649CA7B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76C31-B5E8-4C68-9BED-5CA611D4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734E6-8630-4C89-BA9C-25D3857D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60E164-96A7-4B25-A4A7-015527EE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E5638-BDC4-4C77-8ABC-06CEAD2C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4A8B5E-325E-40C5-8580-5322BC8A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6D7669-112C-4558-A2B4-0989C7EC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E5D380-056A-4739-BA71-1EAE5731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61CD-E141-4E96-AC04-2353053A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E4BBB-7F6C-49D1-B7E3-9F6B85BA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6936E-CC56-44FA-813E-36DC848E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3BB00-FABB-42D7-AAA6-CB857B0C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3A1960-E438-44CC-8BF3-CB4753F8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5BDB3C-4329-48AD-9A47-3D742830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E26AF0-EC63-4733-A7F6-88BC00A8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AD109-90CE-4B6A-B8D3-64F2E6A9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CA1281-743E-40FA-85F8-09D44BC7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108B7B-10B7-4A90-AA90-97F817B1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636FBC-52B9-4F40-8305-7B9493FC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9FA7-F798-4F44-ABD8-0BFDC606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217BF6-0535-4941-B3FB-0F8DE3B0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E6DEA-7417-4650-86C8-C9E3404D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76D6A-74D4-4421-82E2-A3FB2652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5739A7-8723-496B-A111-EA961052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BCFB5-AB4E-448A-91A9-D10599B2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4A1BE3-DBC2-4AA2-8FC9-3054FD3E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5B4450-1E8E-4AEE-8403-D1250429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DD20A-558F-4EF6-B519-272721B4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AD8FC2-1162-43D2-B8B3-6FF68298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46286-0B76-4322-9D34-A0A718DA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3C0A-1A32-49C8-8954-26D368F0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3C0F1-B6D9-4253-B43D-F102E22E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22B24-AE45-4EFC-9250-A661495D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8A5F55-8815-41DA-8430-E8DE3755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FAC30-94DC-4FD8-9BCD-E2D385D6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6090B-9CF7-4873-970C-F04A217B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58C30F-CC58-4584-A187-08302959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02F936-ECD5-48AF-A13E-7850A3F7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00DAAA-C2BC-4D56-BB04-0DB19DC0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E8957F-8092-46D4-B4D5-9CDD1261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C22230-E511-499A-9AAA-361E60E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BA184-77DD-41EC-81BA-E9524571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12E1D4-BA66-4542-8901-E0ADA5BC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C0C72-03C0-4EF6-A967-8AD8BA83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84427C-D425-4477-837B-69B98272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7A1697-9320-48BA-9720-C691C18A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13FD6-A68F-4250-9BF7-0E4D2C8E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9258CC-8168-46B1-A196-07E03AFD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4F17D-B428-44BB-A920-A28DFDDF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0BD938-B120-4F5F-90CD-9DEA5CFC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B837CD-4744-4F73-ABCE-B16F53B7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F7DAB9-A310-4075-945C-49402230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39D-4C08-41FE-B5B7-64368C9A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E7C0-20CB-49E5-9423-E7475D34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CA26FD-0188-4A6F-B32A-56FA8E63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54F97D-02D2-46C3-B91F-26A3EBD7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1C747B-4D92-4D57-B5EA-982D0C4D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692D01-F3E8-44A1-BDE8-200BD71E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1397F6-5048-48DA-8C17-34886A45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70B39F-235F-4531-B21D-40617FAE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2A9525-D085-4436-95AB-681FCBC6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E745EB-F9CC-4BDB-8FEE-F5F5C754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34FEE0-A1B5-4D72-A6CB-1786126C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C14BDD-ADCB-4040-AB4F-15C7F147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AB52-906D-4F44-B06C-D9137EB0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01C922-0B42-4A66-8725-8393B156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5EB90-127A-4E76-800B-199D6A17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F615FD-AEEA-4B41-B472-15E91DD0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A3A9C4-3997-44C1-A9DB-95D318A5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A3E0A0-EED1-408D-9E1B-3BB69717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50EF20-D521-4ED5-A530-32C55679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56E65D-CEE8-4BF2-91AE-AC311379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3BA69D-353B-4441-ADFE-4E33A21B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8A992F-FB1A-4FDE-99E2-FF621A1E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34A30B-3C00-42F9-BC81-1FE1B200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53FD-FD12-46B6-BB59-D9786823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D2C3B-ACF2-44B9-9151-C0EA8E48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AD4697-7942-43C0-BA86-91A055EE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6135C-D3CA-42E1-B9ED-942354AE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4DA2B4-556A-4834-9554-C45BBCF6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D2A681-7A84-48DB-816F-1BBF3124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53776E-8553-4548-AE90-C5FEBE8F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88B5D7-12A3-41C2-96FC-F77D0B3E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62356C-AF07-42F6-A57A-AA6BF823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2F0AB6-B203-45E0-8F7E-3A2BCD7B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303EBB-2EAE-46B5-8E8B-7A3E3FC2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6324-4FC0-4F79-B62B-760CFFA6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7E7C58-A89B-488E-9F22-C64DAF89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16004B-55DB-464D-9489-5AC9088B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B9542A-678B-4B8E-87AD-1EF94E51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CBC159-F80F-47EE-B307-C189636A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051FBE-585E-417A-A9ED-781F6A8F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702B37-5432-4C60-8FDE-09DCBFD1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CD7039-036A-4922-AB60-4EE389C4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38E3B8-694F-4A2E-99F9-179999A7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C97CA3-BA89-4D29-A757-01C77D9D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61F44F-5265-4AA8-90EE-D768C348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847F-3C05-4ACE-B9A6-95BDFD73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FE86CA-2850-4871-BC63-2BB04265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86942D-0C87-4DB0-91D8-C0E82A72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100925-62F0-4867-B910-E3BEAF23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425721-20D3-4350-9379-18622C49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F847DF-CACB-4464-96BC-7100B003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4D3272-13D8-4067-BD93-5D6B405B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F962E1-097F-49D0-93AC-3646FC48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F8F6D0-E316-4711-8AB9-939E799D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4F3856-6534-46C4-A463-BF93CB38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BCC3F7-935A-4EB0-8158-28CC4DB2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1500-5E34-4E4D-8B85-29316EE1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972A02-885F-456D-8CF3-CCF4E42B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FCBCD3-B7B2-4797-A86D-9CB5F2B5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FF7988-9A87-4AA8-BE10-DE946ABA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713DF-29FE-41AC-9BC6-89037642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37652-6417-442A-B6C4-A8A651C7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A85B-C213-4707-8ADA-514476D8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6A1AB-6257-4075-AFF7-8898275D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ABF-CD86-443B-B4FA-83CFD30D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E4032-8717-4D74-9168-AFBEE81B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8993C-D060-41BF-8D87-0856ED55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63CA4-3168-4AE8-989A-0B008E1B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550AA-0F05-42A3-A91C-A20E647A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B1CFA-D538-404A-B785-809B54A6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5321-B615-44DA-A100-17DC3FF7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03B5-9BAA-41DE-97B1-E9949671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A9F8C-0B60-4DCE-A015-0431150F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B6238-F6BD-4AE0-B64D-D4050331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76AA1-3B14-4717-B7BB-E0EBF179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437-12C7-4021-B534-6CA16CA6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9288-346F-4D33-B1B6-909E4F50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3C27C-1601-4AD8-9AE0-6C014CFC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756A4-EB0E-4523-827E-64B9B602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155C1-594F-481D-B86E-10E0C4A2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1DC5F-C148-4D8B-9890-FF7183FC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6BE8F-A9A7-4157-B7E3-8A7066C1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5FC51-E2FF-4F6D-AD21-0FA654DE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0FD75-5E3A-483C-958B-B67504EB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2FCC9-7F8F-4AAE-9BF6-7461B9BB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F6F43-E9B2-46BE-8909-48BB8BAE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C34-A86C-4CA3-8E00-0D19B9AE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96B26-3063-41F5-8508-2A5A88C5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41274-075B-4096-A750-F72DF36C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0D20B-B8AE-4AC3-B2D9-C13F5DC3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5A464-E4C4-4633-A254-F8B00E0B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30CB3-A6B0-42FB-9DD3-682EE607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12EAA-FE7D-43E0-B212-3FCA0C41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FBC8E-F2D3-4949-A928-94FC73AC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4F55B-6B3D-4DF8-9EAA-394ACA22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339AD-13FD-482F-994E-3ADEC75B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A157F-150F-45BD-AFE3-76360434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473-CAA5-4450-8882-D61554B0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9340C-ED9A-42B6-8BE0-1D533B7E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0D28C-1498-4416-874F-D134000B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90E60-B0FD-4C00-80AA-F46BE2C3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46DCF-7059-419F-AF30-0244B732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B64B2-E581-4DFA-B3CB-CE92B8BE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AAE08-3080-4E9E-B6B5-2D50C50E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C067A-D0B2-46BE-AA4F-8449D2A5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A9B89-FC8C-4EBB-AEB4-2E03C5BF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E6003-1B60-4610-B7DC-3D69F42A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3A9C9-C0F1-49CF-8B3B-6015F8C4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5CF-9A03-48F5-913B-8D1C40A4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93B4D-5A2B-4F83-85C3-43F81EA1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521AE-9FD3-4562-9057-A0C5A149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49CA1-C99A-4E29-A064-BFA4A6FE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71202-9143-40B2-808B-261965E0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86C65-80FB-465D-9F81-CFB0E212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CF73D-284E-48FE-B648-096593A8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257A5-7EF3-49D0-AE60-2D566493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23806-6A06-4004-9DF6-E4C7621A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18952-8191-4130-BD3C-E79396CD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0EED2-2B0A-416A-9561-E4CDF424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911-48F2-4959-8DAC-B6EB8FF0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15345-B0A9-408F-ACA3-2F71EC3A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139F1-B71E-4FA3-82A7-86C4A34C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49C30-9C8C-47D2-9D67-41B86F80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A0566-A16E-4F0B-8F60-3B77CD7E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8D9BD-D3E9-40D3-ACA4-2FB86BCC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C6E70-8AD4-48D1-8A60-264AD9B7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9F199-F832-43A2-B428-47CB5096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408A9-D0D2-4932-AF0A-947C734A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2C948-EA58-4B75-991E-51C85240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A2F05-174B-4B79-8786-3F320E86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A62D-C0F9-4E43-A0A4-9FF53CBF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DC674-D35D-4FA1-9FC6-5F113F07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D0756-5F9D-4894-A9E1-DCFBB834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4A2AC-9681-4BD2-8340-40417CDC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77DEB-0991-4353-AB29-BB0371D3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137AA-5A0F-4A15-933A-0AA86EF6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6F1B0-5F9B-4DD8-9B4A-F87DDF45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B67DE-E336-449E-8B6C-CF03E99D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C6969-6C53-42B3-A3A0-2C38DD54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2E371-3054-436B-A3FC-0A2E8A83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DB299-B226-4D27-A7CD-FDBA5FB8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D72B-8F30-42E0-9AEF-5B142490D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1C07-A34C-42E4-8E91-D070CBB343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91AF-5080-4B29-888D-7A08AA6CAA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B5DB-424B-4EA4-BFCD-C2EBDA62CD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C004-7FC4-4793-9865-B56917492A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B856-E6AC-4252-B0FB-3F9DAC5677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0E6F-EEA5-4D1C-8655-53639B5D2D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0E87-636F-46B2-A1C9-AA6B6D08DB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0E9E-6B4C-4674-8958-9747DD69C4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C9B1-9C0F-4864-8D19-82D6B0F46F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8EB0-4DD7-471A-81FF-B6417D8C12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A63B-C01A-4BBF-B53B-EF266D9AE4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941F-7536-4FF4-A2B5-66788726E2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B95A-BADD-4242-BB69-06580EFC48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EAB8-0052-42E7-A717-BF3AF9F82F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C7C2-3306-410E-9FE2-57D6F4C43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E32F-7370-47C7-BEAC-5E3FFB1D83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0843-435F-418D-893B-4391230ACA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D533-D25E-429B-AD4E-440DB1B878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B8BA-F9F6-43D5-A813-9582F27BF4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1F01-1331-42B7-B086-2299F4EC53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405C-212D-4D87-A3B5-87EE562E36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2C3C-FDEE-4F94-92D3-D8EE6C2C7B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D2C6-4EFB-471F-B9AF-CB4472FEE0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3C50-5BAF-4DFD-B02C-9D2051252F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4C74-6268-4E0F-907A-F1D8671CE8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E0DB-064C-4370-8ED9-2458F96107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123B-55C3-4566-AE9A-5088EC917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DBB2-0D10-4A20-8633-70739B0634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C06F-F824-4E5F-B777-4C4026850E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B47B-C0EE-4DB7-A52A-34F895178E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9F07-14E6-483F-8400-4601791384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22E4-69CC-4E02-9F9E-B9DA821221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025C-343E-4C5F-8E04-F3EA04188A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3732-2EE5-441E-938C-07A01E57EC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4029-1016-43E3-B46D-A68F085764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E731-D6BC-4F10-998C-44F944DE1A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53C4-7311-4567-A6E8-31A44C0994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151F-F579-4664-83EB-CBA4FB5EF9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2F70-160C-4109-A0D1-A00A12E80D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019160" y="2914560"/>
            <a:ext cx="71056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73080" y="1395360"/>
            <a:ext cx="8997840" cy="4816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692360" y="2736720"/>
            <a:ext cx="718920" cy="3366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4716360" y="2751120"/>
            <a:ext cx="719280" cy="3366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8028000" y="2751120"/>
            <a:ext cx="719280" cy="3366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2050920" y="4062240"/>
            <a:ext cx="719280" cy="3366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5148360" y="4062240"/>
            <a:ext cx="1079280" cy="3366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8244000" y="4062240"/>
            <a:ext cx="718920" cy="3366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1692360" y="4494240"/>
            <a:ext cx="1584360" cy="3366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5364000" y="4508640"/>
            <a:ext cx="2592720" cy="3362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1"/>
          <a:stretch/>
        </p:blipFill>
        <p:spPr>
          <a:xfrm>
            <a:off x="2195640" y="4941720"/>
            <a:ext cx="1368360" cy="3366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2"/>
          <a:stretch/>
        </p:blipFill>
        <p:spPr>
          <a:xfrm>
            <a:off x="5508720" y="4941720"/>
            <a:ext cx="1655640" cy="3366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3"/>
          <a:stretch/>
        </p:blipFill>
        <p:spPr>
          <a:xfrm>
            <a:off x="1692360" y="5402160"/>
            <a:ext cx="1368360" cy="3366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4"/>
          <a:stretch/>
        </p:blipFill>
        <p:spPr>
          <a:xfrm>
            <a:off x="4859280" y="5388120"/>
            <a:ext cx="1368360" cy="3362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5"/>
          <a:stretch/>
        </p:blipFill>
        <p:spPr>
          <a:xfrm>
            <a:off x="8028000" y="5388120"/>
            <a:ext cx="936720" cy="3362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16"/>
          <a:stretch/>
        </p:blipFill>
        <p:spPr>
          <a:xfrm>
            <a:off x="1835280" y="5834160"/>
            <a:ext cx="93636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104760" y="2643120"/>
            <a:ext cx="8934480" cy="1571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2411280" y="2852640"/>
            <a:ext cx="86544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5364000" y="2838600"/>
            <a:ext cx="43200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8101080" y="2824200"/>
            <a:ext cx="104292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1619280" y="3371760"/>
            <a:ext cx="1042920" cy="3333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4643280" y="3371760"/>
            <a:ext cx="1043280" cy="3333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8115480" y="3371760"/>
            <a:ext cx="863280" cy="3333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8"/>
          <a:stretch/>
        </p:blipFill>
        <p:spPr>
          <a:xfrm>
            <a:off x="1619280" y="3774960"/>
            <a:ext cx="863640" cy="3333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9"/>
          <a:stretch/>
        </p:blipFill>
        <p:spPr>
          <a:xfrm>
            <a:off x="5148360" y="3789360"/>
            <a:ext cx="86364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19080" y="1295280"/>
            <a:ext cx="910584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-4680" y="2787480"/>
            <a:ext cx="91533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3:17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